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752480" y="800280"/>
            <a:ext cx="2495520" cy="444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6019920"/>
            <a:ext cx="61128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igrh.sp.gov.br/" TargetMode="External"/><Relationship Id="rId2" Type="http://schemas.openxmlformats.org/officeDocument/2006/relationships/hyperlink" Target="http://www.sigrh.sp.gov.br/" TargetMode="External"/><Relationship Id="rId3" Type="http://schemas.openxmlformats.org/officeDocument/2006/relationships/hyperlink" Target="http://www.sigrh.sp.gov.br/" TargetMode="External"/><Relationship Id="rId4" Type="http://schemas.openxmlformats.org/officeDocument/2006/relationships/hyperlink" Target="http://www.sigrh.sp.gov.br/" TargetMode="External"/><Relationship Id="rId5" Type="http://schemas.openxmlformats.org/officeDocument/2006/relationships/hyperlink" Target="http://www.sirhesc.sc.gov.br/" TargetMode="External"/><Relationship Id="rId6" Type="http://schemas.openxmlformats.org/officeDocument/2006/relationships/hyperlink" Target="http://www.sirhesc.sc.gov.br/" TargetMode="External"/><Relationship Id="rId7" Type="http://schemas.openxmlformats.org/officeDocument/2006/relationships/hyperlink" Target="http://www.sirhesc.sc.gov.br/" TargetMode="External"/><Relationship Id="rId8" Type="http://schemas.openxmlformats.org/officeDocument/2006/relationships/hyperlink" Target="http://www.sirhesc.sc.gov.br/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943600"/>
            <a:ext cx="773280" cy="914400"/>
          </a:xfrm>
          <a:custGeom>
            <a:avLst/>
            <a:gdLst>
              <a:gd name="textAreaLeft" fmla="*/ 360 w 773280"/>
              <a:gd name="textAreaRight" fmla="*/ 772920 w 773280"/>
              <a:gd name="textAreaTop" fmla="*/ 360 h 914400"/>
              <a:gd name="textAreaBottom" fmla="*/ 914040 h 914400"/>
            </a:gdLst>
            <a:ahLst/>
            <a:rect l="textAreaLeft" t="textAreaTop" r="textAreaRight" b="textAreaBottom"/>
            <a:pathLst>
              <a:path w="21600" h="25540">
                <a:moveTo>
                  <a:pt x="44" y="0"/>
                </a:moveTo>
                <a:arcTo wR="44" hR="44" stAng="16200000" swAng="-5400000"/>
                <a:lnTo>
                  <a:pt x="0" y="25496"/>
                </a:lnTo>
                <a:arcTo wR="44" hR="44" stAng="10800000" swAng="-5400000"/>
                <a:lnTo>
                  <a:pt x="21556" y="25540"/>
                </a:lnTo>
                <a:arcTo wR="44" hR="44" stAng="5400000" swAng="-5400000"/>
                <a:lnTo>
                  <a:pt x="21600" y="44"/>
                </a:lnTo>
                <a:arcTo wR="44" hR="4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200" y="4378320"/>
            <a:ext cx="2594160" cy="243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1859040"/>
            <a:ext cx="4572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ÇÃO E 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H/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ubro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68400" y="1219320"/>
            <a:ext cx="75661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"NEGAR EL ACCESO A LA INFORM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EGAR EL ACCESO A LA DEMOCRACIA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over la participación ciudada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ranspar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el acceso a la  informac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fortalecer las instituciones de la democra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la acción colec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dación Poder Ciudada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ONG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447920"/>
            <a:ext cx="80010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 9.433/97 - Artigo 1°,  inciso 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stão dos recursos hídricos deve ser descentrali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contar com a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icip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Poder Públ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usuários e das comunida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8229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onstrar o panorama de disponibilidade de informações sobre os conselhos de recursos hídricos e os comitês de bacias hidrográficas brasileir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mar a atenção para a necessidade de divulgação dessas informações básicas, que facilitam a participação de todos os segmentos da sociedade na gestão dos recurs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752480"/>
            <a:ext cx="731520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áginas eletrônicas dos conselhos nacional e estaduais de recursos hídricos e dos comitês de bacias em rios de domínio da União e dos Es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143000"/>
            <a:ext cx="7924680" cy="44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IS INFORMAÇÕES PESQUISADAS NA PÁGINA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ção do colegiado com informações para contat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d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beraçõ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islação pertinente (principalmente Decreto de criação e Regimento intern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âmaras Técnicas: composição e trabalhos em desenvolviment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1143000"/>
            <a:ext cx="632448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oluções Impor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igrh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sp.gov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nta Cat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sirhesc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.sc.gov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deração das Industrias do Espirito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6560" y="1371600"/>
            <a:ext cx="36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286000"/>
            <a:ext cx="837396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ção para os Est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lhos Estaduais devem apresentar as informações básicas para possibilitar a particip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ção para os representantes da sociedade civil e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rganizações que participam dos colegiaods devem divulgar  em suas páginas essa atu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ção para os CB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ando a divulgação dos Comitês em páginas atualiz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GTI-SPOA</cp:lastModifiedBy>
  <dcterms:modified xsi:type="dcterms:W3CDTF">2006-10-23T19:35:46Z</dcterms:modified>
  <cp:revision>64</cp:revision>
  <dc:subject/>
  <dc:title>SISTEMA NACIONAL DE GERENCIAMENTO DE RECURSOS HÍDRICOS</dc:title>
</cp:coreProperties>
</file>